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76D6-2E7F-407E-9BE5-EE6B92EEAEE4}" type="slidenum">
              <a:rPr b="0" lang="sr-Latn-C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1D09-D84A-40DE-B794-1C9128A726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246E-836C-4423-AF74-BCE459E333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5A23-576F-4FF7-9908-1E5819A41995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497120" cy="3373200"/>
          </a:xfrm>
          <a:prstGeom prst="rect">
            <a:avLst/>
          </a:prstGeom>
          <a:ln w="0">
            <a:noFill/>
          </a:ln>
        </p:spPr>
      </p:sp>
      <p:grpSp>
        <p:nvGrpSpPr>
          <p:cNvPr id="252" name="Group 3"/>
          <p:cNvGrpSpPr/>
          <p:nvPr/>
        </p:nvGrpSpPr>
        <p:grpSpPr>
          <a:xfrm>
            <a:off x="4564080" y="392040"/>
            <a:ext cx="1351080" cy="307080"/>
            <a:chOff x="4564080" y="392040"/>
            <a:chExt cx="1351080" cy="307080"/>
          </a:xfrm>
        </p:grpSpPr>
        <p:sp>
          <p:nvSpPr>
            <p:cNvPr id="253" name="Text Box 4"/>
            <p:cNvSpPr/>
            <p:nvPr/>
          </p:nvSpPr>
          <p:spPr>
            <a:xfrm>
              <a:off x="4694040" y="419760"/>
              <a:ext cx="984960" cy="24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99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Text Box 5"/>
            <p:cNvSpPr/>
            <p:nvPr/>
          </p:nvSpPr>
          <p:spPr>
            <a:xfrm>
              <a:off x="4564080" y="39204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5040" rIns="93960" tIns="92520" bIns="9252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38160"/>
                  <a:tab algn="l" pos="1876320"/>
                  <a:tab algn="l" pos="2814480"/>
                  <a:tab algn="l" pos="3753000"/>
                  <a:tab algn="l" pos="4691160"/>
                  <a:tab algn="l" pos="5629320"/>
                  <a:tab algn="l" pos="6567480"/>
                  <a:tab algn="l" pos="7505640"/>
                  <a:tab algn="l" pos="8443800"/>
                  <a:tab algn="l" pos="9381960"/>
                  <a:tab algn="l" pos="10320480"/>
                </a:tabLst>
              </a:pPr>
              <a:r>
                <a:rPr b="0" lang="en-CA" sz="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SHORT  VERSION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A4A6-16D4-4A7A-A4F0-14C55823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65B-04AB-4F3D-A02D-26D9D95E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2337-F24E-4E1D-87BF-716E4AEE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D1E-EEF9-4FBC-8526-FDD2CF55F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F09C-2AEA-4135-B4EF-DB731D4A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66B-AC55-48EF-8291-E9882E68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239-7599-4DEE-922E-7240AA03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E61C-44E1-446A-B32F-92B6BF39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FFF6-4F4F-4CF4-9966-CE712E286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015-8C4D-4DFA-802C-DD952B5E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AEB-5675-4793-ADD8-C9F9299E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CF7F-73A9-47E2-B380-A6E2298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CFD4-B623-425B-9C6A-0DCCB8F771F8}" type="slidenum">
              <a:rPr b="0" lang="pt-PT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belt/v=2/SID=w/TID=I999_73/l=II/R=1/SS=i/OID=72c6b33a3c0b99d8/SIG=1mqh8cvuu/EXP=1130962749/*-http%3A//images.search.yahoo.com/search/images/view?back=http%3A%2F%2Fimages.search.yahoo.com%2Fsearch%2Fimages%3F_adv_prop%3Dimages%26imgsz%3Dall%26imgc%3D%26vf%3Dall%26va%3Dbelt%26fr%3Dslv1-%26ei%3DUTF-8&amp;h=364&amp;w=500&amp;imgcurl=www.magnet-eze.com.au%2Fimages%2FAll_Products_Gallery_500%2Fimages%2FLeather_Belt_Mens.jpg&amp;imgurl=www.magnet-eze.com.au%2Fimages%2FAll_Products_Gallery_500%2Fimages%2FLeather_Belt_Mens.jpg&amp;size=71.3kB&amp;name=Leather_Belt_Mens.jpg&amp;rcurl=http%3A%2F%2Fwww.magnet-eze.com.au%2Fimages%2FAll_Products_Gallery_500%2Fpages%2FLeather_Belt_Mens.htm&amp;rurl=http%3A%2F%2Fwww.magnet-eze.com.au%2Fimages%2FAll_Products_Gallery_500%2Fpages%2FLeather_Belt_Mens.htm&amp;p=belt&amp;type=jpeg&amp;no=1&amp;tt=495,964&amp;ei=UTF-8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ds.yahoo.com/S=96062857/K=psycho/v=2/SID=w/TID=I999_73/l=II/R=26/SS=i/OID=1ea34c79e2a63a96/SIG=1hh69r5lo/EXP=1131033274/*-http%3A//images.search.yahoo.com/search/images/view?back=http%3A%2F%2Fimages.search.yahoo.com%2Fsearch%2Fimages%3F_adv_prop%3Dimages%26imgsz%3Dall%26vf%3Dall%26va%3Dpsycho%26ei%3DUTF-8%26fr%3Dslv1-%26b%3D21&amp;h=243&amp;w=284&amp;imgcurl=www.kprf.ru%2Fclipart%2Fmisc%2Fpsycho.jpg&amp;imgurl=www.kprf.ru%2Fclipart%2Fmisc%2Fpsycho.jpg&amp;size=12.6kB&amp;name=psycho.jpg&amp;rcurl=http%3A%2F%2F44141.rapidforum.com%2Ftopic%3D100181254283%26startid%3D2&amp;rurl=http%3A%2F%2F44141.rapidforum.com%2Ftopic%3D100181254283%26startid%3D2&amp;p=psycho&amp;type=jpeg&amp;no=26&amp;tt=102,881&amp;ei=UTF-8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НИВЕРЗИТЕТ У КРАГУЈЕВЦУ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br>
              <a:rPr sz="1800"/>
            </a:br>
            <a:r>
              <a:rPr b="1" lang="sr-C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АКУЛТЕТ МЕДИЦИНСКИХ НАУКА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ч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ф. др Горан Михајлови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90560" cy="122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280" y="4869000"/>
            <a:ext cx="475308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спитивање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Burdon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или Pieron-Toulouse-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им тес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11280" y="1600200"/>
          <a:ext cx="8075520" cy="2602080"/>
        </p:xfrm>
        <a:graphic>
          <a:graphicData uri="http://schemas.openxmlformats.org/drawingml/2006/table">
            <a:tbl>
              <a:tblPr/>
              <a:tblGrid>
                <a:gridCol w="1657080"/>
                <a:gridCol w="1656000"/>
                <a:gridCol w="2519280"/>
                <a:gridCol w="2243160"/>
              </a:tblGrid>
              <a:tr h="5997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ем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ћ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ји п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ж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ипови расеја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4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НАЦИТ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ГИЛ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ИЗИ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АТОЛ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на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пре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Book Antiqua"/>
                          <a:ea typeface="Arial"/>
                        </a:rPr>
                        <a:t>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800080"/>
                          </a:solidFill>
                          <a:latin typeface="Arial"/>
                          <a:ea typeface="Arial"/>
                        </a:rPr>
                        <a:t>⁭⁭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“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сејани 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ч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ник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ниј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Rectangle 4"/>
          <p:cNvSpPr/>
          <p:nvPr/>
        </p:nvSpPr>
        <p:spPr>
          <a:xfrm>
            <a:off x="0" y="58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4481640" y="5630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6" descr="imagen2"/>
          <p:cNvPicPr/>
          <p:nvPr/>
        </p:nvPicPr>
        <p:blipFill>
          <a:blip r:embed="rId1"/>
          <a:stretch/>
        </p:blipFill>
        <p:spPr>
          <a:xfrm>
            <a:off x="5292720" y="4437000"/>
            <a:ext cx="259236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68000" y="1773360"/>
            <a:ext cx="828036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њ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а функција којом се по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препознавање информације, њене употребне вредности и ње као ц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НО САЗНАЊЕ – посредств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ла се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ју предмети и појаве објективне реал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 психо-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ензорним центентрим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оре мозг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једи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вање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С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субјективна одр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реалност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ИМ ИСКУСТВО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(ЕНГРАМИМА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agnosia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17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о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6840" y="1600200"/>
            <a:ext cx="447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ГНОЗИЈЕ (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тактилне, симултане, анозогнозије, аутотопагноз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ЛУЗИЈЕ (услед не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е, дејства афеката или навика, пареидолиј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ХАЛУЦИНАЦИЈЕ (акус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оп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екстракампне, тактилне, ценестет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, густативне, олфактивн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3357720"/>
            <a:ext cx="1190880" cy="866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5076720" y="4869000"/>
            <a:ext cx="1224000" cy="86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6443640" y="3789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6516720" y="5300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4" descr="i_serpent"/>
          <p:cNvPicPr/>
          <p:nvPr/>
        </p:nvPicPr>
        <p:blipFill>
          <a:blip r:embed="rId3"/>
          <a:stretch/>
        </p:blipFill>
        <p:spPr>
          <a:xfrm>
            <a:off x="7308720" y="334476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i_serpent"/>
          <p:cNvPicPr/>
          <p:nvPr/>
        </p:nvPicPr>
        <p:blipFill>
          <a:blip r:embed="rId4"/>
          <a:stretch/>
        </p:blipFill>
        <p:spPr>
          <a:xfrm>
            <a:off x="7308720" y="4857840"/>
            <a:ext cx="1181160" cy="876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Agnosia"/>
          <p:cNvPicPr/>
          <p:nvPr/>
        </p:nvPicPr>
        <p:blipFill>
          <a:blip r:embed="rId5"/>
          <a:stretch/>
        </p:blipFill>
        <p:spPr>
          <a:xfrm>
            <a:off x="6094440" y="1700280"/>
            <a:ext cx="135720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оремећаји опажа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алуцинозни феномени – халуцинаторни садржај има одлике телесности, суд реалности – негатив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сто претходе правим халуцин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склопу алкохолних психоза – алкохолна халуциноз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ИТНО: разлика између халуцинација, илузија и псеудохалуцина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066920" y="1596600"/>
            <a:ext cx="46083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Ми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љењ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ЛОГ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 САЗН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л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 удовољењу био-социјалних и сазнајних потреб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о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спресиј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ГОВО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НКРЕТНО и АПСТРАКТНО (ко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е мисаоних операција – анализа, синтеза, компарација, апстракција, конкретизација, индукција, дедукциј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реативно м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љење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ој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к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форму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об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њење, предви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ње, инвенција – откр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тири фазе (“игра идеја”, инкубације, илуминација, верификација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7" descr="thinker%20rodin"/>
          <p:cNvPicPr/>
          <p:nvPr/>
        </p:nvPicPr>
        <p:blipFill>
          <a:blip r:embed="rId1"/>
          <a:stretch/>
        </p:blipFill>
        <p:spPr>
          <a:xfrm>
            <a:off x="755640" y="1773360"/>
            <a:ext cx="2743200" cy="38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љ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55280" y="1600200"/>
            <a:ext cx="47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форм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атол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 о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рно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убрзан и успорен мисаони то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мутиз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расуло мисл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нкохерентно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ерсев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вербигерациј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ологиз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и ми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љења по сад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ј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ецење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рисилн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7" descr="thinking"/>
          <p:cNvPicPr/>
          <p:nvPr/>
        </p:nvPicPr>
        <p:blipFill>
          <a:blip r:embed="rId1"/>
          <a:stretch/>
        </p:blipFill>
        <p:spPr>
          <a:xfrm>
            <a:off x="5618160" y="1989000"/>
            <a:ext cx="28875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умануте ид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611280" y="1628640"/>
            <a:ext cx="2305080" cy="4105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 НАСТА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уи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нтерпретатив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Имаг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Халуцинатор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3492360" y="1628640"/>
            <a:ext cx="2159280" cy="165600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раноид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492360" y="3716280"/>
            <a:ext cx="2159280" cy="252108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АДР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Ј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ерсеку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Љубомор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ротоман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кспанз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Депресив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Религиозно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368440"/>
            <a:ext cx="1871640" cy="1600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2" descr="Go to fullsize image"/>
          <p:cNvPicPr/>
          <p:nvPr/>
        </p:nvPicPr>
        <p:blipFill>
          <a:blip r:embed="rId3"/>
          <a:stretch/>
        </p:blipFill>
        <p:spPr>
          <a:xfrm>
            <a:off x="6084720" y="3716280"/>
            <a:ext cx="2016360" cy="14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АМЋЕЊ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599840"/>
            <a:ext cx="86868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Памћење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својство индивидуе да одре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не информац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 (стварањем енграма у ЦНС-у), задржи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 и, по потреби, репродукуј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азе памћењ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фиксирање (упамћивање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задржавање (ретенција)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репознавање (рекогниција) 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репродукција (екфорисање)                 Код посебних облика пам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ења (учење) 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148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Ултракратко и  кратко претходе трајном памћењ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Трајно памћење -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ктивира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стсинаптичких структура које синтетишу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нуклеинске киселине (пре свега RNA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стају биохемијске промене у НС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8200" indent="-178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енграми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005080" y="4653360"/>
            <a:ext cx="3829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ХАНИЗАМ  ПАМЋЕЊА У ФУНКЦИЈИ ВРЕМЕ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5075280" y="4941720"/>
          <a:ext cx="4068720" cy="1098720"/>
        </p:xfrm>
        <a:graphic>
          <a:graphicData uri="http://schemas.openxmlformats.org/drawingml/2006/table">
            <a:tbl>
              <a:tblPr/>
              <a:tblGrid>
                <a:gridCol w="1828800"/>
                <a:gridCol w="979560"/>
                <a:gridCol w="12603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ФАЗЕ ПАМЋ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ВРЕ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ХАНИЗ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лтра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lt; 1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ратк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–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електричн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рај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&gt; 2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Биохемијс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Line 83"/>
          <p:cNvSpPr/>
          <p:nvPr/>
        </p:nvSpPr>
        <p:spPr>
          <a:xfrm flipH="1">
            <a:off x="4066920" y="3716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6" descr="1memory"/>
          <p:cNvPicPr/>
          <p:nvPr/>
        </p:nvPicPr>
        <p:blipFill>
          <a:blip r:embed="rId1"/>
          <a:stretch/>
        </p:blipFill>
        <p:spPr>
          <a:xfrm>
            <a:off x="6335640" y="1700280"/>
            <a:ext cx="2808360" cy="166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У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Ч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ЕЊ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5560" y="1887120"/>
            <a:ext cx="85071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Calibri"/>
              </a:rPr>
              <a:t>Учењ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активно упамћивањ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блик трајног памћењ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онављање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х садржај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да се они упамт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е учити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еханичк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условљавањем и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 моделу “покушај и грешка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LEARNING"/>
          <p:cNvPicPr/>
          <p:nvPr/>
        </p:nvPicPr>
        <p:blipFill>
          <a:blip r:embed="rId1"/>
          <a:stretch/>
        </p:blipFill>
        <p:spPr>
          <a:xfrm>
            <a:off x="5775480" y="3487680"/>
            <a:ext cx="2325600" cy="19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ћаји памћењ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тативн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ff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99cc"/>
                </a:solidFill>
                <a:latin typeface="Calibri"/>
              </a:rPr>
              <a:t>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о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Хипер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литативни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Ало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ил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реминисц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Псеудоамнезиј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(“халуцинације пам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ења”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сеудологија фанта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Конфабул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62120" indent="-3049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арамне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146840" y="3501000"/>
            <a:ext cx="484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ПАТОГНОМОНИ</a:t>
            </a: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Ч</a:t>
            </a:r>
            <a:r>
              <a:rPr b="0" lang="pt-P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НОСТ КВАЛИТАТИВНИХ ИЗМЕНА ПАМЋЕЊ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851280" y="3832200"/>
          <a:ext cx="5257800" cy="1770120"/>
        </p:xfrm>
        <a:graphic>
          <a:graphicData uri="http://schemas.openxmlformats.org/drawingml/2006/table">
            <a:tbl>
              <a:tblPr/>
              <a:tblGrid>
                <a:gridCol w="1873080"/>
                <a:gridCol w="1872000"/>
                <a:gridCol w="1512720"/>
              </a:tblGrid>
              <a:tr h="397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валитативне измене пам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ћ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ењ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ихопатo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e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Физиоло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ш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и феноме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ломнезије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реминисцен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амнез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онфабулациј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Псеудологија фантасти</a:t>
                      </a: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к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а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               </a:t>
                      </a:r>
                      <a:r>
                        <a:rPr b="0" lang="es-GT" sz="1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AutoShape 124"/>
          <p:cNvSpPr/>
          <p:nvPr/>
        </p:nvSpPr>
        <p:spPr>
          <a:xfrm>
            <a:off x="2411280" y="1844640"/>
            <a:ext cx="6481800" cy="1368360"/>
          </a:xfrm>
          <a:prstGeom prst="leftArrow">
            <a:avLst>
              <a:gd name="adj1" fmla="val 44250"/>
              <a:gd name="adj2" fmla="val 1184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градне, антероградне, конградн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ретро-антероградне, психоге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иво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овека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- Псих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ке фун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9" descr="physiology_withpsychology_c"/>
          <p:cNvPicPr/>
          <p:nvPr/>
        </p:nvPicPr>
        <p:blipFill>
          <a:blip r:embed="rId1"/>
          <a:stretch/>
        </p:blipFill>
        <p:spPr>
          <a:xfrm>
            <a:off x="179280" y="2060640"/>
            <a:ext cx="1149480" cy="1150920"/>
          </a:xfrm>
          <a:prstGeom prst="rect">
            <a:avLst/>
          </a:prstGeom>
          <a:ln w="0">
            <a:noFill/>
          </a:ln>
        </p:spPr>
      </p:pic>
      <p:sp>
        <p:nvSpPr>
          <p:cNvPr id="53" name="Oval 20"/>
          <p:cNvSpPr/>
          <p:nvPr/>
        </p:nvSpPr>
        <p:spPr>
          <a:xfrm>
            <a:off x="4068720" y="1557360"/>
            <a:ext cx="4824360" cy="4680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СВЕС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Oval 21"/>
          <p:cNvSpPr/>
          <p:nvPr/>
        </p:nvSpPr>
        <p:spPr>
          <a:xfrm>
            <a:off x="5508720" y="1844640"/>
            <a:ext cx="1008000" cy="1008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њ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Oval 22"/>
          <p:cNvSpPr/>
          <p:nvPr/>
        </p:nvSpPr>
        <p:spPr>
          <a:xfrm>
            <a:off x="5221440" y="4797360"/>
            <a:ext cx="1079280" cy="1081080"/>
          </a:xfrm>
          <a:prstGeom prst="ellipse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Па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Oval 23"/>
          <p:cNvSpPr/>
          <p:nvPr/>
        </p:nvSpPr>
        <p:spPr>
          <a:xfrm>
            <a:off x="7524720" y="4076640"/>
            <a:ext cx="107964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Емоциј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Oval 24"/>
          <p:cNvSpPr/>
          <p:nvPr/>
        </p:nvSpPr>
        <p:spPr>
          <a:xfrm>
            <a:off x="6732720" y="1916280"/>
            <a:ext cx="1008000" cy="1081080"/>
          </a:xfrm>
          <a:prstGeom prst="ellipse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Нагон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Oval 35"/>
          <p:cNvSpPr/>
          <p:nvPr/>
        </p:nvSpPr>
        <p:spPr>
          <a:xfrm>
            <a:off x="4427640" y="2637000"/>
            <a:ext cx="1008000" cy="1079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Оп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ањ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Oval 36"/>
          <p:cNvSpPr/>
          <p:nvPr/>
        </p:nvSpPr>
        <p:spPr>
          <a:xfrm>
            <a:off x="7667640" y="2924280"/>
            <a:ext cx="934920" cy="936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Tahoma"/>
              </a:rPr>
              <a:t>Вољ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Oval 37"/>
          <p:cNvSpPr/>
          <p:nvPr/>
        </p:nvSpPr>
        <p:spPr>
          <a:xfrm>
            <a:off x="6516720" y="4941720"/>
            <a:ext cx="1224000" cy="1008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Интелигенц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Oval 38"/>
          <p:cNvSpPr/>
          <p:nvPr/>
        </p:nvSpPr>
        <p:spPr>
          <a:xfrm>
            <a:off x="4356000" y="3933720"/>
            <a:ext cx="1008000" cy="1008000"/>
          </a:xfrm>
          <a:prstGeom prst="ellips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М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ш</a:t>
            </a:r>
            <a:r>
              <a:rPr b="0" lang="pt-PT" sz="1600" spc="-1" strike="noStrike">
                <a:solidFill>
                  <a:srgbClr val="000000"/>
                </a:solidFill>
                <a:latin typeface="Tahoma"/>
              </a:rPr>
              <a:t>љењ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41"/>
          <p:cNvSpPr/>
          <p:nvPr/>
        </p:nvSpPr>
        <p:spPr>
          <a:xfrm>
            <a:off x="1692360" y="3068640"/>
            <a:ext cx="29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96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1" lang="pt-PT" sz="96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43" descr="psychology1"/>
          <p:cNvPicPr/>
          <p:nvPr/>
        </p:nvPicPr>
        <p:blipFill>
          <a:blip r:embed="rId2"/>
          <a:stretch/>
        </p:blipFill>
        <p:spPr>
          <a:xfrm>
            <a:off x="179280" y="3500280"/>
            <a:ext cx="1158840" cy="12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5" descr="Psychology_BSc"/>
          <p:cNvPicPr/>
          <p:nvPr/>
        </p:nvPicPr>
        <p:blipFill>
          <a:blip r:embed="rId3"/>
          <a:stretch/>
        </p:blipFill>
        <p:spPr>
          <a:xfrm>
            <a:off x="179280" y="5011560"/>
            <a:ext cx="1152720" cy="1297080"/>
          </a:xfrm>
          <a:prstGeom prst="rect">
            <a:avLst/>
          </a:prstGeom>
          <a:ln w="0">
            <a:noFill/>
          </a:ln>
        </p:spPr>
      </p:pic>
      <p:sp>
        <p:nvSpPr>
          <p:cNvPr id="65" name="Line 49"/>
          <p:cNvSpPr/>
          <p:nvPr/>
        </p:nvSpPr>
        <p:spPr>
          <a:xfrm>
            <a:off x="1476360" y="1628640"/>
            <a:ext cx="0" cy="468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Line 50"/>
          <p:cNvSpPr/>
          <p:nvPr/>
        </p:nvSpPr>
        <p:spPr>
          <a:xfrm>
            <a:off x="1476360" y="6308640"/>
            <a:ext cx="73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  <a:ea typeface="宋体"/>
              </a:rPr>
              <a:t>ИНТЕЛИГЕНЦИЈА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С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особност ув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ања односа изме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у ствари и појав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пособност решавања нових проблема и сналажења у новим ситуац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ател: “Интелигенција је способност учења, мишљења и прилаго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вања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Спирман: “Интелигенцију чини један основни, »G« и висе специфичних фактора, »S«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Торндјак: “Поједине специфичности чине глобалну интелектуалну способност.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Питања егземинатора за процену интелигенције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ндивидуалн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ријентири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испитаниково животно доба, степен обра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овања и социјални стату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ватификује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 се </a:t>
            </a:r>
            <a:r>
              <a:rPr b="0" lang="es-GT" sz="1800" spc="-1" strike="noStrike">
                <a:solidFill>
                  <a:srgbClr val="000000"/>
                </a:solidFill>
                <a:latin typeface="Calibri"/>
              </a:rPr>
              <a:t> количником интелигенције: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QI= УМНИ УЗРАСТ/ХРОНОЛО</a:t>
            </a:r>
            <a:r>
              <a:rPr b="1" lang="en-US" sz="1800" spc="-1" strike="noStrike">
                <a:solidFill>
                  <a:srgbClr val="800080"/>
                </a:solidFill>
                <a:latin typeface="Calibri"/>
                <a:ea typeface="Tahoma"/>
              </a:rPr>
              <a:t>ШКИ УЗРАСТ </a:t>
            </a:r>
            <a:r>
              <a:rPr b="1" lang="es-GT" sz="1800" spc="-1" strike="noStrike">
                <a:solidFill>
                  <a:srgbClr val="800080"/>
                </a:solidFill>
                <a:latin typeface="Calibri"/>
              </a:rPr>
              <a:t>x 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ДЕФИЦИТИ ИНТЕЛИГЕНЦИЈЕ: </a:t>
            </a:r>
            <a:br>
              <a:rPr sz="2800"/>
            </a:br>
            <a:r>
              <a:rPr b="0" lang="es-GT" sz="2800" spc="-1" strike="noStrike">
                <a:solidFill>
                  <a:srgbClr val="000000"/>
                </a:solidFill>
                <a:latin typeface="Calibri"/>
              </a:rPr>
              <a:t>МЕНТАЛНЕ РЕТАРДАЦИЈЕ И ДЕМ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600" spc="-1" strike="noStrike">
                <a:solidFill>
                  <a:srgbClr val="000000"/>
                </a:solidFill>
                <a:latin typeface="Calibri"/>
              </a:rPr>
              <a:t>Француски психијатар Esquirol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Дементном човеку је ускра</a:t>
            </a:r>
            <a:r>
              <a:rPr b="0" i="1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i="1" lang="es-GT" sz="1600" spc="-1" strike="noStrike">
                <a:solidFill>
                  <a:srgbClr val="000000"/>
                </a:solidFill>
                <a:latin typeface="Calibri"/>
              </a:rPr>
              <a:t>ено добро које је некада имао – он је богаташ који је осиромашио, а олигофрен  одувек живи у сиромаштву – он никада није био богат.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3348000" y="2826360"/>
            <a:ext cx="208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МЕНТАЛНЕ РЕТАРДАЦИЈ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484360" y="3429000"/>
          <a:ext cx="3643560" cy="1555920"/>
        </p:xfrm>
        <a:graphic>
          <a:graphicData uri="http://schemas.openxmlformats.org/drawingml/2006/table">
            <a:tbl>
              <a:tblPr/>
              <a:tblGrid>
                <a:gridCol w="1822680"/>
                <a:gridCol w="182088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Степен менталне ретарда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оефицијент интелигенције (Q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Ла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50 до 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Умер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35 до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Те</a:t>
                      </a: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ш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од 20 до 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Дуб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</a:t>
                      </a:r>
                      <a:r>
                        <a:rPr b="0" lang="es-G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спод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143"/>
          <p:cNvSpPr/>
          <p:nvPr/>
        </p:nvSpPr>
        <p:spPr>
          <a:xfrm>
            <a:off x="2556000" y="5234040"/>
            <a:ext cx="3427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ИСПИТИВАЊЕ интелектуалног дефицита: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. Анализа говор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. “Мали клинички тест интелигенције”,  оцењује информисаност, нумеричка спретност, способност апстрактног мишљења …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Спектрум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демен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3521160" y="1538280"/>
            <a:ext cx="1619280" cy="3070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Нормалн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528480" y="6471360"/>
            <a:ext cx="383256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хттп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://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алзхеимерс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орг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ук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Сајту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ј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приступљено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фебруара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 2009. </a:t>
            </a:r>
            <a:r>
              <a:rPr b="0" lang="sr-CS" sz="1000" spc="-1" strike="noStrike">
                <a:solidFill>
                  <a:srgbClr val="000000"/>
                </a:solidFill>
                <a:latin typeface="Tahoma"/>
                <a:ea typeface="Arial"/>
              </a:rPr>
              <a:t>године</a:t>
            </a:r>
            <a:r>
              <a:rPr b="0" lang="hr-HR" sz="10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528480" y="6022800"/>
            <a:ext cx="78598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Алцхајмер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васкулар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мултипле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клероз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</a:t>
            </a:r>
            <a:br>
              <a:rPr sz="1200"/>
            </a:b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Паркинсонов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болест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фронтотемпоралн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;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: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с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Левијевим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Tahoma"/>
                <a:ea typeface="Arial"/>
              </a:rPr>
              <a:t>телима</a:t>
            </a:r>
            <a:r>
              <a:rPr b="0" lang="hr-HR" sz="1200" spc="-1" strike="noStrike">
                <a:solidFill>
                  <a:srgbClr val="000000"/>
                </a:solidFill>
                <a:latin typeface="Tahoma"/>
                <a:ea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3088800" y="2330280"/>
            <a:ext cx="2512440" cy="409320"/>
          </a:xfrm>
          <a:prstGeom prst="bracketPair">
            <a:avLst>
              <a:gd name="adj" fmla="val 17129"/>
            </a:avLst>
          </a:prstGeom>
          <a:noFill/>
          <a:ln w="28440">
            <a:solidFill>
              <a:srgbClr val="6ba2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Шт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с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вде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огађа</a:t>
            </a:r>
            <a:r>
              <a:rPr b="0" lang="hr-HR" sz="1800" spc="-1" strike="noStrike">
                <a:solidFill>
                  <a:srgbClr val="000000"/>
                </a:solidFill>
                <a:latin typeface="Tahoma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86" name="AutoShape 7"/>
          <p:cNvCxnSpPr>
            <a:stCxn id="182" idx="2"/>
            <a:endCxn id="185" idx="0"/>
          </p:cNvCxnSpPr>
          <p:nvPr/>
        </p:nvCxnSpPr>
        <p:spPr>
          <a:xfrm>
            <a:off x="4330440" y="1852200"/>
            <a:ext cx="14760" cy="47844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87" name="Rectangle 8"/>
          <p:cNvSpPr/>
          <p:nvPr/>
        </p:nvSpPr>
        <p:spPr>
          <a:xfrm>
            <a:off x="631800" y="5427720"/>
            <a:ext cx="107316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Бла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1857240" y="5427720"/>
            <a:ext cx="1073160" cy="307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403152"/>
                </a:solidFill>
                <a:latin typeface="Tahoma"/>
                <a:ea typeface="Arial"/>
              </a:rPr>
              <a:t>Умерен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3076560" y="5427720"/>
            <a:ext cx="2503440" cy="520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Узнапредовали</a:t>
            </a:r>
            <a:r>
              <a:rPr b="1" lang="hr-HR" sz="1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стадијум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77624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АБ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62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AutoShape 12"/>
          <p:cNvCxnSpPr>
            <a:stCxn id="185" idx="2"/>
            <a:endCxn id="192" idx="0"/>
          </p:cNvCxnSpPr>
          <p:nvPr/>
        </p:nvCxnSpPr>
        <p:spPr>
          <a:xfrm flipH="1">
            <a:off x="4330080" y="2739960"/>
            <a:ext cx="14760" cy="4788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3" name="Rectangle 13"/>
          <p:cNvSpPr/>
          <p:nvPr/>
        </p:nvSpPr>
        <p:spPr>
          <a:xfrm>
            <a:off x="5661000" y="4254480"/>
            <a:ext cx="1235160" cy="66888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Ва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4" name="AutoShape 14"/>
          <p:cNvCxnSpPr>
            <a:stCxn id="192" idx="2"/>
            <a:endCxn id="190" idx="0"/>
          </p:cNvCxnSpPr>
          <p:nvPr/>
        </p:nvCxnSpPr>
        <p:spPr>
          <a:xfrm rot="5400000">
            <a:off x="3031920" y="2955960"/>
            <a:ext cx="660600" cy="19375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5" name="AutoShape 15"/>
          <p:cNvCxnSpPr>
            <a:stCxn id="192" idx="2"/>
            <a:endCxn id="193" idx="0"/>
          </p:cNvCxnSpPr>
          <p:nvPr/>
        </p:nvCxnSpPr>
        <p:spPr>
          <a:xfrm flipH="1" rot="16200000">
            <a:off x="4974480" y="2950200"/>
            <a:ext cx="660600" cy="1948320"/>
          </a:xfrm>
          <a:prstGeom prst="bentConnector3">
            <a:avLst>
              <a:gd name="adj1" fmla="val 49781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6" name="Rectangle 16"/>
          <p:cNvSpPr/>
          <p:nvPr/>
        </p:nvSpPr>
        <p:spPr>
          <a:xfrm>
            <a:off x="3713040" y="4254480"/>
            <a:ext cx="1290600" cy="912240"/>
          </a:xfrm>
          <a:prstGeom prst="rect">
            <a:avLst/>
          </a:prstGeom>
          <a:solidFill>
            <a:srgbClr val="c0504d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ahoma"/>
                <a:ea typeface="Arial"/>
              </a:rPr>
              <a:t>Мешовит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ahoma"/>
                <a:ea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7" name="AutoShape 17"/>
          <p:cNvCxnSpPr>
            <a:stCxn id="192" idx="2"/>
            <a:endCxn id="196" idx="0"/>
          </p:cNvCxnSpPr>
          <p:nvPr/>
        </p:nvCxnSpPr>
        <p:spPr>
          <a:xfrm>
            <a:off x="4330440" y="3594240"/>
            <a:ext cx="29160" cy="660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8" name="AutoShape 18"/>
          <p:cNvCxnSpPr>
            <a:stCxn id="190" idx="2"/>
            <a:endCxn id="187" idx="0"/>
          </p:cNvCxnSpPr>
          <p:nvPr/>
        </p:nvCxnSpPr>
        <p:spPr>
          <a:xfrm rot="5400000">
            <a:off x="1532160" y="4566600"/>
            <a:ext cx="497520" cy="1226160"/>
          </a:xfrm>
          <a:prstGeom prst="bentConnector3">
            <a:avLst>
              <a:gd name="adj1" fmla="val 49818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199" name="AutoShape 19"/>
          <p:cNvCxnSpPr>
            <a:stCxn id="190" idx="2"/>
            <a:endCxn id="189" idx="0"/>
          </p:cNvCxnSpPr>
          <p:nvPr/>
        </p:nvCxnSpPr>
        <p:spPr>
          <a:xfrm flipH="1" rot="16200000">
            <a:off x="3112200" y="4211640"/>
            <a:ext cx="497520" cy="1935720"/>
          </a:xfrm>
          <a:prstGeom prst="bentConnector3">
            <a:avLst>
              <a:gd name="adj1" fmla="val 49963"/>
            </a:avLst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cxnSp>
        <p:nvCxnSpPr>
          <p:cNvPr id="200" name="AutoShape 20"/>
          <p:cNvCxnSpPr>
            <a:stCxn id="190" idx="2"/>
            <a:endCxn id="188" idx="0"/>
          </p:cNvCxnSpPr>
          <p:nvPr/>
        </p:nvCxnSpPr>
        <p:spPr>
          <a:xfrm>
            <a:off x="2393640" y="4930920"/>
            <a:ext cx="1080" cy="49752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  <p:sp>
        <p:nvSpPr>
          <p:cNvPr id="192" name="Rectangle 21"/>
          <p:cNvSpPr/>
          <p:nvPr/>
        </p:nvSpPr>
        <p:spPr>
          <a:xfrm>
            <a:off x="3521160" y="3218040"/>
            <a:ext cx="1619280" cy="3682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Деменциј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22"/>
          <p:cNvSpPr/>
          <p:nvPr/>
        </p:nvSpPr>
        <p:spPr>
          <a:xfrm>
            <a:off x="7156440" y="306216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М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23"/>
          <p:cNvSpPr/>
          <p:nvPr/>
        </p:nvSpPr>
        <p:spPr>
          <a:xfrm>
            <a:off x="7799400" y="306216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ФТ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24"/>
          <p:cNvSpPr/>
          <p:nvPr/>
        </p:nvSpPr>
        <p:spPr>
          <a:xfrm>
            <a:off x="7156440" y="3446640"/>
            <a:ext cx="5810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П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25"/>
          <p:cNvSpPr/>
          <p:nvPr/>
        </p:nvSpPr>
        <p:spPr>
          <a:xfrm>
            <a:off x="7799400" y="3446640"/>
            <a:ext cx="660240" cy="307080"/>
          </a:xfrm>
          <a:prstGeom prst="rect">
            <a:avLst/>
          </a:prstGeom>
          <a:solidFill>
            <a:srgbClr val="00467a"/>
          </a:solidFill>
          <a:ln w="9360">
            <a:solidFill>
              <a:srgbClr val="91ba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Tahoma"/>
                <a:ea typeface="Arial"/>
              </a:rPr>
              <a:t>ДЛБ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7068960" y="2976480"/>
            <a:ext cx="1419480" cy="370080"/>
          </a:xfrm>
          <a:prstGeom prst="rect">
            <a:avLst/>
          </a:prstGeom>
          <a:noFill/>
          <a:ln w="19080">
            <a:solidFill>
              <a:srgbClr val="91badb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7371720" y="261612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ahoma"/>
                <a:ea typeface="Arial"/>
              </a:rPr>
              <a:t>Остал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7" name="AutoShape 28"/>
          <p:cNvCxnSpPr>
            <a:stCxn id="192" idx="3"/>
            <a:endCxn id="205" idx="1"/>
          </p:cNvCxnSpPr>
          <p:nvPr/>
        </p:nvCxnSpPr>
        <p:spPr>
          <a:xfrm flipV="1">
            <a:off x="5140080" y="3160080"/>
            <a:ext cx="1929240" cy="246600"/>
          </a:xfrm>
          <a:prstGeom prst="straightConnector1">
            <a:avLst/>
          </a:prstGeom>
          <a:ln w="38160">
            <a:solidFill>
              <a:srgbClr val="91badb"/>
            </a:solidFill>
            <a:miter/>
            <a:tailEnd len="med" type="stealth" w="med"/>
          </a:ln>
        </p:spPr>
      </p:cxn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600200"/>
            <a:ext cx="5915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МОЦИЈЕ (lat. </a:t>
            </a:r>
            <a:r>
              <a:rPr b="0" i="1" lang="en-GB" sz="1400" spc="-1" strike="noStrike">
                <a:solidFill>
                  <a:srgbClr val="000000"/>
                </a:solidFill>
                <a:latin typeface="Calibri"/>
              </a:rPr>
              <a:t>emotio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= узбу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ње)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специфичан,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убјективни однос човека према најразли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итијим објект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његовог спољ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ег и унутарњег св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Примери  емоција,  емоционалних реакција: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радост, жалост, бес, страх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љубав, усхићење, понос, симпатија, брига, злоба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авист, мржња, стид, понижење ит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Анатомско седиште емоционалног живота човек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лимбички систе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поталамус (садржи готове обрасце понашања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тесној вези са хипофизом и вегетативним нервним систем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Због анатомофизиоло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ког супстрата (укљ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и кортикалне ефекте)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 емоције се свесно доживљавају, али и манифестују телесним еквивалентима (мимика, гестови,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вегетативне реакције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ва облика манифестација: </a:t>
            </a:r>
            <a:r>
              <a:rPr b="1" lang="pt-PT" sz="1600" spc="-1" strike="noStrike">
                <a:solidFill>
                  <a:srgbClr val="000000"/>
                </a:solidFill>
                <a:latin typeface="Calibri"/>
              </a:rPr>
              <a:t>расположења и афек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7" descr="limbic"/>
          <p:cNvPicPr/>
          <p:nvPr/>
        </p:nvPicPr>
        <p:blipFill>
          <a:blip r:embed="rId1"/>
          <a:stretch/>
        </p:blipFill>
        <p:spPr>
          <a:xfrm>
            <a:off x="6300720" y="1700280"/>
            <a:ext cx="266400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ЕМО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ење – дуготрајно, релативно трајно и равномерно стање емоциј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 – краткотрајно, интензивно стање осећања, праћено видљивим телесним манифестација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фекти: страх, бес, узбуђење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лесне манифестације: укочен поглед, подрхтавање, бледило лица, неправилан говор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宋体"/>
              </a:rPr>
              <a:t>Пореме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  <a:ea typeface="宋体"/>
              </a:rPr>
              <a:t>ћаји емоциј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нтитативни (од  емоција здравих се разликују интензитетом)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валитативни  феномени (типични за менталне поремећај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АНТ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уфор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прес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пат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родужен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лабил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афективна амбиваленц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КВЛИТАТИВНИ ПОРЕМЕЋАЈИ ЕМОЦИЈ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рамимиј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паратимиј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дефект емоционалног од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200" spc="-1" strike="noStrike">
                <a:solidFill>
                  <a:srgbClr val="000000"/>
                </a:solidFill>
                <a:latin typeface="Calibri"/>
              </a:rPr>
              <a:t>емоционална безосећајн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Calibri"/>
              </a:rPr>
              <a:t>патолошки а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Процена расположења и афек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невербел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орук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пацијента (соматске манифестациј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приме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ом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одр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метод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1400" spc="-1" strike="noStrike">
                <a:solidFill>
                  <a:srgbClr val="000000"/>
                </a:solidFill>
                <a:latin typeface="Calibri"/>
              </a:rPr>
              <a:t> (Јунгов тест асоцијација, а за потиснуте емотивне садржаје: психоанализа, Роршахове пројективне технике…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643280" y="1700280"/>
          <a:ext cx="4388040" cy="2292120"/>
        </p:xfrm>
        <a:graphic>
          <a:graphicData uri="http://schemas.openxmlformats.org/drawingml/2006/table">
            <a:tbl>
              <a:tblPr/>
              <a:tblGrid>
                <a:gridCol w="2372040"/>
                <a:gridCol w="201600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Психопатолошки феноме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GT" sz="1400" spc="-1" strike="noStrike">
                          <a:solidFill>
                            <a:srgbClr val="800080"/>
                          </a:solidFill>
                          <a:latin typeface="Tahoma"/>
                          <a:ea typeface="宋体"/>
                        </a:rPr>
                        <a:t>Ментални поремећа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м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рати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фект емоционалног одно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Схизофрен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Емоционална (осећајна) безосећајно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Депрес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атолошки афе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оремецај личност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GT" sz="1200" spc="-1" strike="noStrike">
                          <a:solidFill>
                            <a:srgbClr val="800080"/>
                          </a:solidFill>
                          <a:latin typeface="Tahoma"/>
                        </a:rPr>
                        <a:t>псх. имнене  код  еп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87"/>
          <p:cNvSpPr/>
          <p:nvPr/>
        </p:nvSpPr>
        <p:spPr>
          <a:xfrm>
            <a:off x="5940360" y="551664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Line 88"/>
          <p:cNvSpPr/>
          <p:nvPr/>
        </p:nvSpPr>
        <p:spPr>
          <a:xfrm flipV="1">
            <a:off x="6012000" y="43657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Line 89"/>
          <p:cNvSpPr/>
          <p:nvPr/>
        </p:nvSpPr>
        <p:spPr>
          <a:xfrm>
            <a:off x="6012000" y="4437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90"/>
          <p:cNvSpPr/>
          <p:nvPr/>
        </p:nvSpPr>
        <p:spPr>
          <a:xfrm>
            <a:off x="4500720" y="4292640"/>
            <a:ext cx="143964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4f81bd"/>
                </a:solidFill>
                <a:latin typeface="Tahoma"/>
              </a:rPr>
              <a:t>Хипер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Еу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66ff"/>
                </a:solidFill>
                <a:latin typeface="Tahoma"/>
              </a:rPr>
              <a:t>Хипотимиј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Line 91"/>
          <p:cNvSpPr/>
          <p:nvPr/>
        </p:nvSpPr>
        <p:spPr>
          <a:xfrm>
            <a:off x="6012000" y="5013360"/>
            <a:ext cx="1296720" cy="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93"/>
          <p:cNvSpPr/>
          <p:nvPr/>
        </p:nvSpPr>
        <p:spPr>
          <a:xfrm>
            <a:off x="7308720" y="5013360"/>
            <a:ext cx="503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Line 94"/>
          <p:cNvSpPr/>
          <p:nvPr/>
        </p:nvSpPr>
        <p:spPr>
          <a:xfrm>
            <a:off x="7812000" y="6093000"/>
            <a:ext cx="100800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AutoShape 95"/>
          <p:cNvSpPr/>
          <p:nvPr/>
        </p:nvSpPr>
        <p:spPr>
          <a:xfrm>
            <a:off x="7380360" y="4724280"/>
            <a:ext cx="1476360" cy="576360"/>
          </a:xfrm>
          <a:prstGeom prst="leftArrowCallout">
            <a:avLst>
              <a:gd name="adj1" fmla="val 25002"/>
              <a:gd name="adj2" fmla="val 25000"/>
              <a:gd name="adj3" fmla="val 42692"/>
              <a:gd name="adj4" fmla="val 6667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Еуфор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Депрес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AutoShape 96"/>
          <p:cNvSpPr/>
          <p:nvPr/>
        </p:nvSpPr>
        <p:spPr>
          <a:xfrm>
            <a:off x="6300720" y="5805360"/>
            <a:ext cx="1295640" cy="576360"/>
          </a:xfrm>
          <a:prstGeom prst="rightArrowCallout">
            <a:avLst>
              <a:gd name="adj1" fmla="val 25002"/>
              <a:gd name="adj2" fmla="val 25000"/>
              <a:gd name="adj3" fmla="val 37466"/>
              <a:gd name="adj4" fmla="val 66667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Tahoma"/>
              </a:rPr>
              <a:t>Апатиј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4400" spc="-1" strike="noStrike">
                <a:solidFill>
                  <a:srgbClr val="000000"/>
                </a:solidFill>
                <a:latin typeface="Calibri"/>
              </a:rPr>
              <a:t>НАГОНИ И МОТИВ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агон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а тежња особе з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м понашањем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иљ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е потреба организ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Потреб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енергетска категорија,  кад је усмерена на одр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 циљ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мотив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Биолошки мотиви (нагони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енаучени, ур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ени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зведени мотиви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научени (соци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лн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s-GT" sz="2000" spc="-1" strike="noStrike">
                <a:solidFill>
                  <a:srgbClr val="000000"/>
                </a:solidFill>
                <a:latin typeface="Calibri"/>
              </a:rPr>
              <a:t>нстикти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задовољењ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биоло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ких потреб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ивање: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по типу аутоматизам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разлик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 од нагона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агон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афективни процес при испољавању инстинктивне радњ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вит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 и социјалн</a:t>
            </a: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дела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ВИТАЛНИ  НАГ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s-GT" sz="2400" spc="-1" strike="noStrike">
                <a:solidFill>
                  <a:srgbClr val="000000"/>
                </a:solidFill>
                <a:latin typeface="Calibri"/>
              </a:rPr>
              <a:t>(служе вит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1. нагон самоoдржања (за животом и исхраном)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нагон одржања врсте (сексуални и родитељск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СОЦИЈАЛНИ  НАГОНИ – МОТИВИ (слу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 социјалној адаптацији човека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1. афилијативни моти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GT" sz="2000" spc="-1" strike="noStrike">
                <a:solidFill>
                  <a:srgbClr val="000000"/>
                </a:solidFill>
                <a:latin typeface="Calibri"/>
              </a:rPr>
              <a:t>2. мотив за положајем у друштву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3. мотив сазн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4. мотив самоптв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ањ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5. алтруистички мотив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5" descr="Pieta"/>
          <p:cNvPicPr/>
          <p:nvPr/>
        </p:nvPicPr>
        <p:blipFill>
          <a:blip r:embed="rId1"/>
          <a:stretch/>
        </p:blipFill>
        <p:spPr>
          <a:xfrm>
            <a:off x="5435640" y="4221000"/>
            <a:ext cx="251928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34920" y="1557360"/>
            <a:ext cx="519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1. ПОРЕМЕЋАЈИ  НАГОНА ЗА ЖИВЉЕЊЕМ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јачање (хиперхормија)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снижење до суицида, предфаз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суицидална иде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денција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49920" indent="-3394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тента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мен</a:t>
            </a: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ПОРЕМЕЋАЈИ НАГОНА ЗА ИСХРАНОМ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ВАНТИTAT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ИВНИ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:            КВАЛИТАТИВ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норексија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копрофагиј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булимија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антроп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авер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ија                          -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некрофаги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полифaгијa                              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28120" indent="-52812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- вучјa глa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anorexia_22"/>
          <p:cNvPicPr/>
          <p:nvPr/>
        </p:nvPicPr>
        <p:blipFill>
          <a:blip r:embed="rId1"/>
          <a:stretch/>
        </p:blipFill>
        <p:spPr>
          <a:xfrm>
            <a:off x="684360" y="2773440"/>
            <a:ext cx="249372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3. ПОРЕМЕЋАЈИ  СЕКСУАЛНОГ НАГОНА (квантитативни и квалитативн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НТИТАТИВНИ ПОРЕМЕЋАЈИ СЕКСУАЛНОГ НАГОН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повишење сексуалног нагона (сатиријаза, нинфоманиј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еротизам (хипоеротизам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аноргазм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импотенц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ejaculatio preco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КВАЛИТАТИВНИ ПОРЕМЕЋАЈИ СЕКСУАЛНОГ НАГОНА</a:t>
            </a: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1280" y="4336920"/>
          <a:ext cx="5616360" cy="2449800"/>
        </p:xfrm>
        <a:graphic>
          <a:graphicData uri="http://schemas.openxmlformats.org/drawingml/2006/table">
            <a:tbl>
              <a:tblPr/>
              <a:tblGrid>
                <a:gridCol w="2808360"/>
                <a:gridCol w="280800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ИН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 патолошки објек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ПЕРВЕРЗ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настран начин задовољст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2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арц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бисексуал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геронт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зоофилиј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некрофил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хомосексуалност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специфичнос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мастурбац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педераст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егзибицион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воајер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одомиј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фетиш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садизам и мазох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-трансветитизам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и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метатропиз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Picture 41" descr="Homosexuality"/>
          <p:cNvPicPr/>
          <p:nvPr/>
        </p:nvPicPr>
        <p:blipFill>
          <a:blip r:embed="rId1"/>
          <a:stretch/>
        </p:blipFill>
        <p:spPr>
          <a:xfrm>
            <a:off x="6516720" y="2133720"/>
            <a:ext cx="243360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СВЕ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700280"/>
            <a:ext cx="7777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сазнање о свеукупном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д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ивљавању у датом тренутк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нтегративна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сих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а функциј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арактеристике: континуитет и некомуникативнос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б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и физиол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 смисл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степен буд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Појам свест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ПРЕДМЕТН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СВЕСТ и СВЕСТ САМОГ СЕБ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У психологиј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доживљај реал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наг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4. ПОРЕМЕЋАЈ СОЦИЈАЛНИХ МОТИ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похорм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индром (схизофренија, депресија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снижење свих социјалних мотив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: афилијативни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мотиви самопотвр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вања, сазнања, аутоафирмације, ра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уро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осо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роше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 енергије на интрапсихичке конфликт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– снижење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нтисоцијал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поремећај лицност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тологи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оцијалне мотива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ВОЉ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оги не сматрају посебном психичком функциј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рен у снази нагонског живо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ун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(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односно, особина) све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нергија коју  свесно Ја улаже или у реализацију или у кочење, одлагање, одбацивање сопствене жељ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дње: вољне и невољне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ћаји вољ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68000" y="1125360"/>
            <a:ext cx="8064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лабост вољ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“губитак слободног вољног одлучивања”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од  квалитативн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о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тећењ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вести, снажн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продукција психотичности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у болестима зависности (психоактивне супстанце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вантитативне измен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воље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слабост воље) и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абулије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губитак воље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Код оболелих од депресије и схизофрен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ролазна хипобулија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манифестација замора, несанице, интоксикац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Сугестиб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некритично прихватање ставова други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Доцил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послушност)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екстремна сугестибилност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ајте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и облик сугестибилности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утоматс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послушнос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Импулзивност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моторних радњи,  којима особ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реагује одмах након стимулуса (који могу бити минорни)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ез обраде информације, практично уз изостанак вољ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Могу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извор хетероагресиј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Кататони синдром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скуп психомоторних активности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услед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слабљења вољног утицаја н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понашање оболеле особе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адрж</a:t>
            </a:r>
            <a:r>
              <a:rPr b="0" lang="sr-RS" sz="1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хипо и хиперкинетске елемент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о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(кататони ступор, каталепсиј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еотипија држања, пасивни негативизам и ехо фено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Хиперкинетске манифестације</a:t>
            </a:r>
            <a:r>
              <a:rPr b="1" lang="sr-RS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pt-PT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(кататона помама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стеротипија понашања, активни негативизам, манириз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бизарност, стереотипија гово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5" descr="Catatonic"/>
          <p:cNvPicPr/>
          <p:nvPr/>
        </p:nvPicPr>
        <p:blipFill>
          <a:blip r:embed="rId1"/>
          <a:stretch/>
        </p:blipFill>
        <p:spPr>
          <a:xfrm>
            <a:off x="6516720" y="2565360"/>
            <a:ext cx="2371680" cy="34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Хвал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7" descr="psychiatry"/>
          <p:cNvPicPr/>
          <p:nvPr/>
        </p:nvPicPr>
        <p:blipFill>
          <a:blip r:embed="rId1"/>
          <a:stretch/>
        </p:blipFill>
        <p:spPr>
          <a:xfrm>
            <a:off x="3203640" y="2116080"/>
            <a:ext cx="4753080" cy="42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5338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ш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р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ре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Деперсонализа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Трансформација л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Ау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ореме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ји свести у у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м смисл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нтитативни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инкопа, сомноленција, сопор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ом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Квалитативн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(с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и пом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ења свест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rop%20depersonalization"/>
          <p:cNvPicPr/>
          <p:nvPr/>
        </p:nvPicPr>
        <p:blipFill>
          <a:blip r:embed="rId1"/>
          <a:stretch/>
        </p:blipFill>
        <p:spPr>
          <a:xfrm>
            <a:off x="5867280" y="1844640"/>
            <a:ext cx="2898720" cy="39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Квалитативни пореме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Tahoma"/>
              </a:rPr>
              <a:t>ћ</a:t>
            </a: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аји св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фу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лирију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мент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уновна стањ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умрачно ст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омнабул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уг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ипн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6"/>
          <p:cNvSpPr/>
          <p:nvPr/>
        </p:nvSpPr>
        <p:spPr>
          <a:xfrm>
            <a:off x="586728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Oval 7"/>
          <p:cNvSpPr/>
          <p:nvPr/>
        </p:nvSpPr>
        <p:spPr>
          <a:xfrm>
            <a:off x="1258920" y="3860640"/>
            <a:ext cx="2232000" cy="2233800"/>
          </a:xfrm>
          <a:prstGeom prst="ellipse">
            <a:avLst/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Oval 8"/>
          <p:cNvSpPr/>
          <p:nvPr/>
        </p:nvSpPr>
        <p:spPr>
          <a:xfrm>
            <a:off x="6227640" y="4221000"/>
            <a:ext cx="1513080" cy="151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умра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ч</a:t>
            </a: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на стањ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Сомнабулизам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Фуг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Tahoma"/>
              </a:rPr>
              <a:t>Хипноз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Oval 14"/>
          <p:cNvSpPr/>
          <p:nvPr/>
        </p:nvSpPr>
        <p:spPr>
          <a:xfrm>
            <a:off x="140328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Oval 15"/>
          <p:cNvSpPr/>
          <p:nvPr/>
        </p:nvSpPr>
        <p:spPr>
          <a:xfrm>
            <a:off x="2843280" y="414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Oval 16"/>
          <p:cNvSpPr/>
          <p:nvPr/>
        </p:nvSpPr>
        <p:spPr>
          <a:xfrm>
            <a:off x="1619280" y="4221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1763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Oval 18"/>
          <p:cNvSpPr/>
          <p:nvPr/>
        </p:nvSpPr>
        <p:spPr>
          <a:xfrm>
            <a:off x="1979640" y="580536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Oval 19"/>
          <p:cNvSpPr/>
          <p:nvPr/>
        </p:nvSpPr>
        <p:spPr>
          <a:xfrm>
            <a:off x="2268360" y="414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Oval 20"/>
          <p:cNvSpPr/>
          <p:nvPr/>
        </p:nvSpPr>
        <p:spPr>
          <a:xfrm>
            <a:off x="1547640" y="5300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Oval 21"/>
          <p:cNvSpPr/>
          <p:nvPr/>
        </p:nvSpPr>
        <p:spPr>
          <a:xfrm>
            <a:off x="1476360" y="47242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Oval 22"/>
          <p:cNvSpPr/>
          <p:nvPr/>
        </p:nvSpPr>
        <p:spPr>
          <a:xfrm>
            <a:off x="2987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Oval 23"/>
          <p:cNvSpPr/>
          <p:nvPr/>
        </p:nvSpPr>
        <p:spPr>
          <a:xfrm>
            <a:off x="2771640" y="5516640"/>
            <a:ext cx="1429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Oval 24"/>
          <p:cNvSpPr/>
          <p:nvPr/>
        </p:nvSpPr>
        <p:spPr>
          <a:xfrm>
            <a:off x="2411280" y="393372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Oval 25"/>
          <p:cNvSpPr/>
          <p:nvPr/>
        </p:nvSpPr>
        <p:spPr>
          <a:xfrm>
            <a:off x="2627280" y="4076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Oval 26"/>
          <p:cNvSpPr/>
          <p:nvPr/>
        </p:nvSpPr>
        <p:spPr>
          <a:xfrm>
            <a:off x="298764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Oval 27"/>
          <p:cNvSpPr/>
          <p:nvPr/>
        </p:nvSpPr>
        <p:spPr>
          <a:xfrm>
            <a:off x="1908000" y="407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val 28"/>
          <p:cNvSpPr/>
          <p:nvPr/>
        </p:nvSpPr>
        <p:spPr>
          <a:xfrm>
            <a:off x="176364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val 29"/>
          <p:cNvSpPr/>
          <p:nvPr/>
        </p:nvSpPr>
        <p:spPr>
          <a:xfrm>
            <a:off x="1835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Oval 30"/>
          <p:cNvSpPr/>
          <p:nvPr/>
        </p:nvSpPr>
        <p:spPr>
          <a:xfrm>
            <a:off x="3276720" y="4797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Oval 31"/>
          <p:cNvSpPr/>
          <p:nvPr/>
        </p:nvSpPr>
        <p:spPr>
          <a:xfrm>
            <a:off x="2484360" y="580536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Oval 32"/>
          <p:cNvSpPr/>
          <p:nvPr/>
        </p:nvSpPr>
        <p:spPr>
          <a:xfrm>
            <a:off x="2195640" y="587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Oval 33"/>
          <p:cNvSpPr/>
          <p:nvPr/>
        </p:nvSpPr>
        <p:spPr>
          <a:xfrm>
            <a:off x="3203640" y="5300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Oval 34"/>
          <p:cNvSpPr/>
          <p:nvPr/>
        </p:nvSpPr>
        <p:spPr>
          <a:xfrm>
            <a:off x="1332000" y="5157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Oval 35"/>
          <p:cNvSpPr/>
          <p:nvPr/>
        </p:nvSpPr>
        <p:spPr>
          <a:xfrm>
            <a:off x="2124000" y="558972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Oval 36"/>
          <p:cNvSpPr/>
          <p:nvPr/>
        </p:nvSpPr>
        <p:spPr>
          <a:xfrm>
            <a:off x="2700360" y="573408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Oval 37"/>
          <p:cNvSpPr/>
          <p:nvPr/>
        </p:nvSpPr>
        <p:spPr>
          <a:xfrm>
            <a:off x="2411280" y="558972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Oval 38"/>
          <p:cNvSpPr/>
          <p:nvPr/>
        </p:nvSpPr>
        <p:spPr>
          <a:xfrm>
            <a:off x="3203640" y="508464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Oval 39"/>
          <p:cNvSpPr/>
          <p:nvPr/>
        </p:nvSpPr>
        <p:spPr>
          <a:xfrm>
            <a:off x="2987640" y="5661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Oval 40"/>
          <p:cNvSpPr/>
          <p:nvPr/>
        </p:nvSpPr>
        <p:spPr>
          <a:xfrm>
            <a:off x="133200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Oval 41"/>
          <p:cNvSpPr/>
          <p:nvPr/>
        </p:nvSpPr>
        <p:spPr>
          <a:xfrm>
            <a:off x="298764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Oval 42"/>
          <p:cNvSpPr/>
          <p:nvPr/>
        </p:nvSpPr>
        <p:spPr>
          <a:xfrm>
            <a:off x="2124000" y="3933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43"/>
          <p:cNvSpPr/>
          <p:nvPr/>
        </p:nvSpPr>
        <p:spPr>
          <a:xfrm>
            <a:off x="1547640" y="5516640"/>
            <a:ext cx="14472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Oval 44"/>
          <p:cNvSpPr/>
          <p:nvPr/>
        </p:nvSpPr>
        <p:spPr>
          <a:xfrm>
            <a:off x="1619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Oval 45"/>
          <p:cNvSpPr/>
          <p:nvPr/>
        </p:nvSpPr>
        <p:spPr>
          <a:xfrm>
            <a:off x="320364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6"/>
          <p:cNvSpPr/>
          <p:nvPr/>
        </p:nvSpPr>
        <p:spPr>
          <a:xfrm>
            <a:off x="90000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Пом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ћ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ења свести                                          Су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же</a:t>
            </a:r>
            <a:r>
              <a:rPr b="1" lang="pt-PT" sz="1800" spc="-1" strike="noStrike">
                <a:solidFill>
                  <a:srgbClr val="000000"/>
                </a:solidFill>
                <a:latin typeface="Tahoma"/>
              </a:rPr>
              <a:t>ња све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1763640" y="4653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Oval 50"/>
          <p:cNvSpPr/>
          <p:nvPr/>
        </p:nvSpPr>
        <p:spPr>
          <a:xfrm>
            <a:off x="1835280" y="4941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Oval 51"/>
          <p:cNvSpPr/>
          <p:nvPr/>
        </p:nvSpPr>
        <p:spPr>
          <a:xfrm>
            <a:off x="3059280" y="5445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Oval 52"/>
          <p:cNvSpPr/>
          <p:nvPr/>
        </p:nvSpPr>
        <p:spPr>
          <a:xfrm>
            <a:off x="1835280" y="5229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Oval 53"/>
          <p:cNvSpPr/>
          <p:nvPr/>
        </p:nvSpPr>
        <p:spPr>
          <a:xfrm>
            <a:off x="1619280" y="443700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Oval 54"/>
          <p:cNvSpPr/>
          <p:nvPr/>
        </p:nvSpPr>
        <p:spPr>
          <a:xfrm>
            <a:off x="2771640" y="472428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Oval 55"/>
          <p:cNvSpPr/>
          <p:nvPr/>
        </p:nvSpPr>
        <p:spPr>
          <a:xfrm>
            <a:off x="2843280" y="501336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Oval 56"/>
          <p:cNvSpPr/>
          <p:nvPr/>
        </p:nvSpPr>
        <p:spPr>
          <a:xfrm>
            <a:off x="3059280" y="4292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4920" y="1557000"/>
            <a:ext cx="8209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П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њ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усмеравања и о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дређеној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информациј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од интереса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ВИГИЛНОС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усмеравање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са једне на другу информац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ТЕНАЦИТЕТ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способност задр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ж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авања псих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ahoma"/>
              </a:rPr>
              <a:t>ч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ке енергије на информацији колико је то временски за одр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ени задатак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опходно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0" descr="attention"/>
          <p:cNvPicPr/>
          <p:nvPr/>
        </p:nvPicPr>
        <p:blipFill>
          <a:blip r:embed="rId1"/>
          <a:stretch/>
        </p:blipFill>
        <p:spPr>
          <a:xfrm>
            <a:off x="250920" y="3500280"/>
            <a:ext cx="1946160" cy="20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сивна пажња (невољна) – одвија се аутоматс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ира је информација која се намеће опажајној сфер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Јака драж, нагли прекид дражи, контраст између дражи и дру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тивна пажња (вољна) – покретач: жеља, свесна вољна одлу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нифестација вољ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везана са: интересима, мотивацијом, организациј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АЖ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им пажње – способност запажања међусобно неповезаних појединости у кратком временском интервал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лност пажње – ефикасност концентрације у време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инамичка пажња – способност да се у оквиру једне делатности психичка енергија стално помера са једне информације на дру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21:26:51Z</dcterms:created>
  <dc:creator>Dusan</dc:creator>
  <dc:description/>
  <dc:language>en-US</dc:language>
  <cp:lastModifiedBy>Nemanja Muric</cp:lastModifiedBy>
  <dcterms:modified xsi:type="dcterms:W3CDTF">2022-02-20T10:52:29Z</dcterms:modified>
  <cp:revision>85</cp:revision>
  <dc:subject/>
  <dc:title>OSNOVI PSIHOPATOLOGIJE</dc:title>
</cp:coreProperties>
</file>